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ct" ContentType="image/x-pict"/>
  <Override PartName="/ppt/media/image22.pct" ContentType="image/x-pict"/>
  <Override PartName="/ppt/media/image59.pct" ContentType="image/x-pict"/>
  <Override PartName="/ppt/media/image21.pct" ContentType="image/x-pict"/>
  <Override PartName="/ppt/media/image58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32.jpeg" ContentType="image/jpeg"/>
  <Override PartName="/ppt/media/image24.pct" ContentType="image/x-pict"/>
  <Override PartName="/ppt/media/image1.pct" ContentType="image/x-pict"/>
  <Override PartName="/ppt/media/image31.pct" ContentType="image/x-pict"/>
  <Override PartName="/ppt/media/image25.pct" ContentType="image/x-pict"/>
  <Override PartName="/ppt/media/image2.pct" ContentType="image/x-pict"/>
  <Override PartName="/ppt/media/image26.pct" ContentType="image/x-pict"/>
  <Override PartName="/ppt/media/image3.pct" ContentType="image/x-pict"/>
  <Override PartName="/ppt/media/image33.pct" ContentType="image/x-pict"/>
  <Override PartName="/ppt/media/image27.pct" ContentType="image/x-pict"/>
  <Override PartName="/ppt/media/image4.pct" ContentType="image/x-pict"/>
  <Override PartName="/ppt/media/image7.png" ContentType="image/png"/>
  <Override PartName="/ppt/media/image34.pct" ContentType="image/x-pict"/>
  <Override PartName="/ppt/media/image20.pct" ContentType="image/x-pict"/>
  <Override PartName="/ppt/media/image57.pct" ContentType="image/x-pict"/>
  <Override PartName="/ppt/media/image18.pct" ContentType="image/x-pict"/>
  <Override PartName="/ppt/media/image28.pct" ContentType="image/x-pict"/>
  <Override PartName="/ppt/media/image5.pct" ContentType="image/x-pict"/>
  <Override PartName="/ppt/media/image35.pct" ContentType="image/x-pict"/>
  <Override PartName="/ppt/media/image45.pct" ContentType="image/x-pict"/>
  <Override PartName="/ppt/media/image46.pct" ContentType="image/x-pict"/>
  <Override PartName="/ppt/media/image50.pct" ContentType="image/x-pict"/>
  <Override PartName="/ppt/media/image13.pct" ContentType="image/x-pict"/>
  <Override PartName="/ppt/media/image11.pct" ContentType="image/x-pict"/>
  <Override PartName="/ppt/media/image48.pct" ContentType="image/x-pict"/>
  <Override PartName="/ppt/media/image51.pct" ContentType="image/x-pict"/>
  <Override PartName="/ppt/media/image52.pct" ContentType="image/x-pict"/>
  <Override PartName="/ppt/media/image41.pct" ContentType="image/x-pict"/>
  <Override PartName="/ppt/media/image53.pct" ContentType="image/x-pict"/>
  <Override PartName="/ppt/media/image42.pct" ContentType="image/x-pict"/>
  <Override PartName="/ppt/media/image54.pct" ContentType="image/x-pict"/>
  <Override PartName="/ppt/media/image43.pct" ContentType="image/x-pict"/>
  <Override PartName="/ppt/media/image55.pct" ContentType="image/x-pict"/>
  <Override PartName="/ppt/media/image44.pct" ContentType="image/x-pict"/>
  <Override PartName="/ppt/media/image56.pct" ContentType="image/x-pict"/>
  <Override PartName="/ppt/media/image40.pct" ContentType="image/x-pict"/>
  <Override PartName="/ppt/media/image37.pct" ContentType="image/x-pict"/>
  <Override PartName="/ppt/media/image30.pct" ContentType="image/x-pict"/>
  <Override PartName="/ppt/media/image49.pct" ContentType="image/x-pict"/>
  <Override PartName="/ppt/media/image12.pct" ContentType="image/x-pict"/>
  <Override PartName="/ppt/media/image10.pct" ContentType="image/x-pict"/>
  <Override PartName="/ppt/media/image47.pct" ContentType="image/x-pict"/>
  <Override PartName="/ppt/media/image39.pct" ContentType="image/x-pict"/>
  <Override PartName="/ppt/media/image9.pct" ContentType="image/x-pict"/>
  <Override PartName="/ppt/media/image38.pct" ContentType="image/x-pict"/>
  <Override PartName="/ppt/media/image8.pct" ContentType="image/x-pict"/>
  <Override PartName="/ppt/media/image36.pct" ContentType="image/x-pict"/>
  <Override PartName="/ppt/media/image6.pct" ContentType="image/x-pict"/>
  <Override PartName="/ppt/media/image29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90F8C-071F-41FF-BF42-D60013F5C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7240" y="3859560"/>
            <a:ext cx="8991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B31B-37FF-45B8-8D0F-7FF006343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4387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4520" y="914040"/>
            <a:ext cx="4387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240" y="3859560"/>
            <a:ext cx="4387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4520" y="3859560"/>
            <a:ext cx="4387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328A0-D1DC-45E2-BBDB-67DAFAB25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2895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7440" y="914040"/>
            <a:ext cx="2895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27640" y="914040"/>
            <a:ext cx="2895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7240" y="3859560"/>
            <a:ext cx="2895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7440" y="3859560"/>
            <a:ext cx="2895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27640" y="3859560"/>
            <a:ext cx="2895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172B-98AD-4E48-B352-BF4CBD6F51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0BEB7-5623-4B41-BA12-F1B8CFC6FC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CC9D6-0FC1-49C4-BC8C-511CBBEA56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4387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4520" y="914040"/>
            <a:ext cx="4387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D130E-FA5C-4644-8EC5-477B12FBA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90FB4-EB1C-45AB-83DF-66BC38DA3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7240" y="0"/>
            <a:ext cx="8991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46F26-4F64-434E-B809-669CADB48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4387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4520" y="914040"/>
            <a:ext cx="4387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7240" y="3859560"/>
            <a:ext cx="4387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10FEB-13E3-41D6-8B73-2A1B82FF0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4387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4520" y="914040"/>
            <a:ext cx="4387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4520" y="3859560"/>
            <a:ext cx="4387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CE87D-7BFE-466F-B0F8-2E00F35281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4387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4520" y="914040"/>
            <a:ext cx="4387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7240" y="3859560"/>
            <a:ext cx="8991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9C108-07A3-4E11-808C-1A8851F30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42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19D5-9C97-4A7B-8D57-DF27B9267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ct"/><Relationship Id="rId3" Type="http://schemas.openxmlformats.org/officeDocument/2006/relationships/image" Target="../media/image20.pct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image" Target="../media/image26.pct"/><Relationship Id="rId3" Type="http://schemas.openxmlformats.org/officeDocument/2006/relationships/image" Target="../media/image27.pct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image" Target="../media/image30.pct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image" Target="../media/image32.jpeg"/><Relationship Id="rId6" Type="http://schemas.openxmlformats.org/officeDocument/2006/relationships/image" Target="../media/image33.pct"/><Relationship Id="rId7" Type="http://schemas.openxmlformats.org/officeDocument/2006/relationships/image" Target="../media/image34.pct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image" Target="../media/image6.pct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ct"/><Relationship Id="rId2" Type="http://schemas.openxmlformats.org/officeDocument/2006/relationships/image" Target="../media/image36.pct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ct"/><Relationship Id="rId2" Type="http://schemas.openxmlformats.org/officeDocument/2006/relationships/image" Target="../media/image38.pct"/><Relationship Id="rId3" Type="http://schemas.openxmlformats.org/officeDocument/2006/relationships/image" Target="../media/image39.pct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ct"/><Relationship Id="rId2" Type="http://schemas.openxmlformats.org/officeDocument/2006/relationships/image" Target="../media/image41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ct"/><Relationship Id="rId2" Type="http://schemas.openxmlformats.org/officeDocument/2006/relationships/image" Target="../media/image43.pct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ct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pct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pct"/><Relationship Id="rId2" Type="http://schemas.openxmlformats.org/officeDocument/2006/relationships/image" Target="../media/image47.pct"/><Relationship Id="rId3" Type="http://schemas.openxmlformats.org/officeDocument/2006/relationships/image" Target="../media/image48.pct"/><Relationship Id="rId4" Type="http://schemas.openxmlformats.org/officeDocument/2006/relationships/image" Target="../media/image49.pct"/><Relationship Id="rId5" Type="http://schemas.openxmlformats.org/officeDocument/2006/relationships/image" Target="../media/image50.pct"/><Relationship Id="rId6" Type="http://schemas.openxmlformats.org/officeDocument/2006/relationships/image" Target="../media/image51.pct"/><Relationship Id="rId7" Type="http://schemas.openxmlformats.org/officeDocument/2006/relationships/image" Target="../media/image52.pct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pct"/><Relationship Id="rId2" Type="http://schemas.openxmlformats.org/officeDocument/2006/relationships/image" Target="../media/image53.pct"/><Relationship Id="rId3" Type="http://schemas.openxmlformats.org/officeDocument/2006/relationships/image" Target="../media/image54.pct"/><Relationship Id="rId4" Type="http://schemas.openxmlformats.org/officeDocument/2006/relationships/image" Target="../media/image54.pct"/><Relationship Id="rId5" Type="http://schemas.openxmlformats.org/officeDocument/2006/relationships/image" Target="../media/image54.pct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ct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1.pct"/><Relationship Id="rId2" Type="http://schemas.openxmlformats.org/officeDocument/2006/relationships/image" Target="../media/image53.pct"/><Relationship Id="rId3" Type="http://schemas.openxmlformats.org/officeDocument/2006/relationships/image" Target="../media/image54.pct"/><Relationship Id="rId4" Type="http://schemas.openxmlformats.org/officeDocument/2006/relationships/image" Target="../media/image54.pct"/><Relationship Id="rId5" Type="http://schemas.openxmlformats.org/officeDocument/2006/relationships/image" Target="../media/image54.pct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6.pct"/><Relationship Id="rId2" Type="http://schemas.openxmlformats.org/officeDocument/2006/relationships/image" Target="../media/image57.pct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8.pct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9.pct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image" Target="../media/image6.pct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k Lensing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Ki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equivalent of the CMB power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B is a 2D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ar is a 3D fi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41008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erical Harm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s general transforms on a sphere for any spin-weight qua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655344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erical Harm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flat sky approximation and a scalar field (s=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ariances of the flat sky coefficients related to the power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195960" cy="1243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219320" y="5181480"/>
            <a:ext cx="693900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ivation of CS power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ear field we can observe is a 3D spin-2 fi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rite done its spherical harmonic coeffic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data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ory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5713560" cy="1198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523880" y="5702400"/>
            <a:ext cx="6248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ivation of CS power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we theoretically predic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r 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lecture 2 we know that shear is related to the 2nd derivative of the lensing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at lensing potential is the projected Netwons potentia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24816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09680" y="5821200"/>
            <a:ext cx="4368960" cy="1036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276720" y="3886200"/>
            <a:ext cx="204444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ivation of CS power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related the Newtons potential to the matter overdensity vi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isson’s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503880" cy="1103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971800" y="3200400"/>
            <a:ext cx="312408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ivation of CS power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theoretical shear estim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0960" cy="3284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0" y="1905120"/>
            <a:ext cx="32004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3200400"/>
            <a:ext cx="763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i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ly relates underlying matter to the observable coeffic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15000" cy="2222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133720" y="5029200"/>
            <a:ext cx="502920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ivation of CS power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we need to take the covariance of this to generate the power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95480" y="2133720"/>
            <a:ext cx="2907000" cy="84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4876920"/>
            <a:ext cx="9144000" cy="14842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33520" y="3276720"/>
            <a:ext cx="7573680" cy="1233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48520" y="5029200"/>
            <a:ext cx="2743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14842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133720" y="4648320"/>
            <a:ext cx="5029200" cy="105552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5488200" y="342900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Scal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7162920" y="20574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895480" y="22093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914400"/>
            <a:ext cx="2971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 of the l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Spectra of weak l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m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“Cosmic Shear Tomography” and how does it relate to the full 3D shear fie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mber Approxi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projected to (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429000" y="3657600"/>
            <a:ext cx="1676520" cy="3200400"/>
            <a:chOff x="3429000" y="3657600"/>
            <a:chExt cx="1676520" cy="3200400"/>
          </a:xfrm>
        </p:grpSpPr>
        <p:sp>
          <p:nvSpPr>
            <p:cNvPr id="119" name=""/>
            <p:cNvSpPr/>
            <p:nvPr/>
          </p:nvSpPr>
          <p:spPr>
            <a:xfrm>
              <a:off x="3657600" y="365760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3429000" y="4343400"/>
              <a:ext cx="167652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3657600" y="3657600"/>
              <a:ext cx="1295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52880" y="426708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57600" y="6248520"/>
              <a:ext cx="1295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57600" y="3733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57600" y="5715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57600" y="3886200"/>
              <a:ext cx="1295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57600" y="4114800"/>
              <a:ext cx="533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457200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57600" y="434340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24280" y="4876920"/>
              <a:ext cx="228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57600" y="6019920"/>
              <a:ext cx="1295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594360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43400" y="58672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579132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00600" y="57150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9880" y="37339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5943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38098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3962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4038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4114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419112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6252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14800" y="59436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67080" y="59436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19720" y="59436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57913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6920" y="418788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438280" y="5181480"/>
            <a:ext cx="16002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028840" y="5181480"/>
            <a:ext cx="16002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m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ber ok at small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useful Limber Approximation formula (LoVerde &amp; Afshord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52480" y="3352680"/>
            <a:ext cx="5573880" cy="12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14842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200400" y="762120"/>
            <a:ext cx="762120" cy="38088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762120"/>
            <a:ext cx="761760" cy="38088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1371600"/>
            <a:ext cx="1447920" cy="38088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620120" cy="998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4191120" y="2057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685800"/>
            <a:ext cx="2743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m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ber Approximation (loss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 to Real space (benig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isation in redshift space (loss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620120" cy="998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graph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2D shear correlation in redshift b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“auto” correl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a 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“cross” correl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bin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nd j refer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dshift bin pai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283360" cy="1143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grpSp>
        <p:nvGrpSpPr>
          <p:cNvPr id="170" name=""/>
          <p:cNvGrpSpPr/>
          <p:nvPr/>
        </p:nvGrpSpPr>
        <p:grpSpPr>
          <a:xfrm>
            <a:off x="1371600" y="4733640"/>
            <a:ext cx="6262560" cy="1963080"/>
            <a:chOff x="1371600" y="4733640"/>
            <a:chExt cx="6262560" cy="1963080"/>
          </a:xfrm>
        </p:grpSpPr>
        <p:sp>
          <p:nvSpPr>
            <p:cNvPr id="171" name=""/>
            <p:cNvSpPr/>
            <p:nvPr/>
          </p:nvSpPr>
          <p:spPr>
            <a:xfrm flipH="1" rot="936000">
              <a:off x="1980720" y="4876920"/>
              <a:ext cx="1295640" cy="1676520"/>
            </a:xfrm>
            <a:prstGeom prst="parallelogram">
              <a:avLst>
                <a:gd name="adj" fmla="val 3919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rot="936000">
              <a:off x="3123720" y="4876920"/>
              <a:ext cx="1295640" cy="1676520"/>
            </a:xfrm>
            <a:prstGeom prst="parallelogram">
              <a:avLst>
                <a:gd name="adj" fmla="val 3919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rot="936000">
              <a:off x="4343400" y="4876920"/>
              <a:ext cx="1295280" cy="1676520"/>
            </a:xfrm>
            <a:prstGeom prst="parallelogram">
              <a:avLst>
                <a:gd name="adj" fmla="val 3919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936000">
              <a:off x="5562720" y="4876920"/>
              <a:ext cx="1295280" cy="1676520"/>
            </a:xfrm>
            <a:prstGeom prst="parallelogram">
              <a:avLst>
                <a:gd name="adj" fmla="val 3919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71600" y="6172200"/>
              <a:ext cx="624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01160" y="5610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2933640" cy="939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3352680" y="1055520"/>
            <a:ext cx="5791320" cy="944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560" y="68580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rt VI : Predic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er Matr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 Manipu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 Sear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600200" y="228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819520" y="228600"/>
            <a:ext cx="1274760" cy="1295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4267080" y="457200"/>
            <a:ext cx="1676520" cy="846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6019920" y="304920"/>
            <a:ext cx="1338120" cy="1298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"/>
          <p:cNvPicPr/>
          <p:nvPr/>
        </p:nvPicPr>
        <p:blipFill>
          <a:blip r:embed="rId6"/>
          <a:srcRect l="13922" t="27971" r="10119" b="19537"/>
          <a:stretch/>
        </p:blipFill>
        <p:spPr>
          <a:xfrm>
            <a:off x="7391520" y="228600"/>
            <a:ext cx="1600200" cy="1562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391520" y="228600"/>
            <a:ext cx="1600200" cy="1447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we w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ccurately can we estimate a model parameter from a given data s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set of N data point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he estimator to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bia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small error bars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st Unbiased Estim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ey Quantity in this is the Fisher (Information)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0" y="3200400"/>
            <a:ext cx="1041480" cy="469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375240" y="3733920"/>
            <a:ext cx="276876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(Fisher) Matri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 expand a likelihood surface about the maximum likelihood poi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rite this as a Gauss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he Hessian (covariance)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543800" cy="8841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447920" y="3962520"/>
            <a:ext cx="6083280" cy="7491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666880" y="5638680"/>
            <a:ext cx="32767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Fisher Matri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ssian Matrix has some nice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al Error 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 error 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3124080" cy="10252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352680" y="4724280"/>
            <a:ext cx="22100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sing useful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k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k Mat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surveys covering 100’s or 1000’s of square degrees coming online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Fisher Matri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sher Matrix defined a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ectation of the Hessian matri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allows us to ma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di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the performance of an experiment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p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rginal error 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4238640" cy="1111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352680" y="5410080"/>
            <a:ext cx="274320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amer-Ra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Fisher matrice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amer-Rao Inequality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biased estim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124080" y="3505320"/>
            <a:ext cx="25909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aussian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calculate Fisher Matrices in prac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that the likelihood is Gauss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295280" y="3581280"/>
            <a:ext cx="62834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aussian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2844720" cy="583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124080" y="2057400"/>
            <a:ext cx="2641680" cy="546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1930320" cy="355680"/>
          </a:xfrm>
          <a:prstGeom prst="rect">
            <a:avLst/>
          </a:prstGeom>
          <a:ln w="9360">
            <a:solidFill>
              <a:srgbClr val="66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819520" y="18288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819520" y="25909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2133720" y="3657600"/>
            <a:ext cx="5105160" cy="5205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441972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58680" y="279072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0160" y="301932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x 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6248520" y="2819520"/>
            <a:ext cx="2070000" cy="355320"/>
          </a:xfrm>
          <a:prstGeom prst="rect">
            <a:avLst/>
          </a:prstGeom>
          <a:ln w="9360">
            <a:solidFill>
              <a:srgbClr val="660000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4435560" y="42958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4520" y="441972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1905120" y="5181480"/>
            <a:ext cx="5422680" cy="711360"/>
          </a:xfrm>
          <a:prstGeom prst="rect">
            <a:avLst/>
          </a:prstGeom>
          <a:ln w="31680">
            <a:solidFill>
              <a:srgbClr val="333399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6248520" y="4419720"/>
            <a:ext cx="1181160" cy="406440"/>
          </a:xfrm>
          <a:prstGeom prst="rect">
            <a:avLst/>
          </a:prstGeom>
          <a:ln w="9360">
            <a:solidFill>
              <a:srgbClr val="66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to Calculate a Fisher 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7240" y="2909880"/>
            <a:ext cx="899172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know the (expected) covariance and mean from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d example y=mx+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838080" y="1295280"/>
            <a:ext cx="7291440" cy="711000"/>
            <a:chOff x="838080" y="1295280"/>
            <a:chExt cx="7291440" cy="71100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838080" y="1295280"/>
              <a:ext cx="5423040" cy="71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790960" y="1447560"/>
              <a:ext cx="1955880" cy="3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3"/>
            <a:stretch/>
          </p:blipFill>
          <p:spPr>
            <a:xfrm>
              <a:off x="7772400" y="1447560"/>
              <a:ext cx="2048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4"/>
            <a:stretch/>
          </p:blipFill>
          <p:spPr>
            <a:xfrm>
              <a:off x="7924680" y="1447560"/>
              <a:ext cx="2048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5"/>
            <a:stretch/>
          </p:blipFill>
          <p:spPr>
            <a:xfrm flipH="1">
              <a:off x="5638320" y="1447560"/>
              <a:ext cx="20484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Extra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dd parameters to a Fisher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extend the matri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133720" y="3429000"/>
            <a:ext cx="47782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ing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wo experiment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pend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 combined error is simp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om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for n 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er Future Foreca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ow have a tool with which we can predict the accuracy of future experim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easi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expected parameter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extra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990720" y="2133720"/>
            <a:ext cx="7291440" cy="711000"/>
            <a:chOff x="990720" y="2133720"/>
            <a:chExt cx="7291440" cy="71100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990720" y="2133720"/>
              <a:ext cx="5423040" cy="71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5943600" y="2286000"/>
              <a:ext cx="1955880" cy="3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7925040" y="2286000"/>
              <a:ext cx="2048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4"/>
            <a:stretch/>
          </p:blipFill>
          <p:spPr>
            <a:xfrm>
              <a:off x="8077320" y="2286000"/>
              <a:ext cx="2048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5"/>
            <a:stretch/>
          </p:blipFill>
          <p:spPr>
            <a:xfrm flipH="1">
              <a:off x="5790960" y="2286000"/>
              <a:ext cx="20484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hear the mean shear is zero, the information is in the covariance so (Hu, 199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at is used to make predictions for cosmic shear and dark energy 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e code available http://www.icosm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5727600" cy="1143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943600" y="5486400"/>
            <a:ext cx="167652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k Lensing Surv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and on going survey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52280" y="4876920"/>
            <a:ext cx="8610480" cy="764280"/>
            <a:chOff x="152280" y="4876920"/>
            <a:chExt cx="8610480" cy="764280"/>
          </a:xfrm>
        </p:grpSpPr>
        <p:sp>
          <p:nvSpPr>
            <p:cNvPr id="255" name=""/>
            <p:cNvSpPr/>
            <p:nvPr/>
          </p:nvSpPr>
          <p:spPr>
            <a:xfrm>
              <a:off x="152280" y="5029200"/>
              <a:ext cx="861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5440" y="4876920"/>
              <a:ext cx="0" cy="304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99840" y="4876920"/>
              <a:ext cx="0" cy="304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14240" y="4876920"/>
              <a:ext cx="0" cy="304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28640" y="4876920"/>
              <a:ext cx="0" cy="304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19360" y="4876920"/>
              <a:ext cx="0" cy="304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33760" y="4876920"/>
              <a:ext cx="0" cy="304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24480" y="4876920"/>
              <a:ext cx="0" cy="304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314840" y="4876920"/>
              <a:ext cx="0" cy="304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9360" y="51814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8160" y="51814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92920" y="51814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98040" y="51814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993960" y="4191120"/>
            <a:ext cx="19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HTLenS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0" y="4114800"/>
            <a:ext cx="1447920" cy="0"/>
          </a:xfrm>
          <a:prstGeom prst="line">
            <a:avLst/>
          </a:prstGeom>
          <a:ln w="22320">
            <a:solidFill>
              <a:srgbClr val="99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84320" y="3657600"/>
            <a:ext cx="25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-STARRS 1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48120" y="3657600"/>
            <a:ext cx="1600200" cy="0"/>
          </a:xfrm>
          <a:prstGeom prst="line">
            <a:avLst/>
          </a:prstGeom>
          <a:ln w="22320">
            <a:solidFill>
              <a:srgbClr val="99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55800" y="518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458200" y="4876920"/>
            <a:ext cx="0" cy="304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66680" y="4648320"/>
            <a:ext cx="1676520" cy="0"/>
          </a:xfrm>
          <a:prstGeom prst="line">
            <a:avLst/>
          </a:prstGeom>
          <a:ln w="22320">
            <a:solidFill>
              <a:srgbClr val="99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55560" y="32004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S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09880" y="3200400"/>
            <a:ext cx="1600200" cy="0"/>
          </a:xfrm>
          <a:prstGeom prst="line">
            <a:avLst/>
          </a:prstGeom>
          <a:ln w="22320">
            <a:solidFill>
              <a:srgbClr val="99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93640" y="27432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34120" y="2743200"/>
            <a:ext cx="1904760" cy="0"/>
          </a:xfrm>
          <a:prstGeom prst="line">
            <a:avLst/>
          </a:prstGeom>
          <a:ln w="22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870160" y="22860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c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0" y="3809880"/>
            <a:ext cx="2514600" cy="0"/>
          </a:xfrm>
          <a:prstGeom prst="line">
            <a:avLst/>
          </a:prstGeom>
          <a:ln w="22320">
            <a:solidFill>
              <a:srgbClr val="99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241400" y="274320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2080" y="5991120"/>
            <a:ext cx="35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 complete or survey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  first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76720" y="1447920"/>
            <a:ext cx="0" cy="3581280"/>
          </a:xfrm>
          <a:prstGeom prst="line">
            <a:avLst/>
          </a:prstGeom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sing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mapp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Relativity relates this to the gravitational potent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ortion matrix implies that distortion is elliptical : shear and converg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formalise that relates the shear and convergence (observable) to the underlying gravitational potent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791320" y="380880"/>
            <a:ext cx="2819160" cy="152424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2342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k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 constraints of 1% from Eucl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572000" cy="4205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"/>
          <p:cNvPicPr/>
          <p:nvPr/>
        </p:nvPicPr>
        <p:blipFill>
          <a:blip r:embed="rId2"/>
          <a:srcRect l="13922" t="27971" r="10119" b="19537"/>
          <a:stretch/>
        </p:blipFill>
        <p:spPr>
          <a:xfrm>
            <a:off x="4343400" y="1600200"/>
            <a:ext cx="426708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we didn’t c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metric redshif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insic Align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axy-galaxy len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to determine galaxy-scale properties and cosm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uster l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l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k Matter mapp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sing is a simple cosmological pro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ly related to General Relativ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linear image distor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from data is challeng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lots of galaxies and very sophisticated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sing is a powerful probe of dark energy and dark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d galaxies have instrinsic ellipticity and sh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d shape measurement metho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ments - KS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fitting - lensf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an unsolved problem for largest most ambitous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,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0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LIVE(!) GREAT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560" y="68580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rt V : Cosmic Shea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why we use 2-point s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erical Harmon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ivation of the cosmic shear power spec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600200" y="228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819520" y="228600"/>
            <a:ext cx="1274760" cy="1295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267080" y="457200"/>
            <a:ext cx="1676520" cy="84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019920" y="304920"/>
            <a:ext cx="1338120" cy="1298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6"/>
          <a:srcRect l="13922" t="27971" r="10119" b="19537"/>
          <a:stretch/>
        </p:blipFill>
        <p:spPr>
          <a:xfrm>
            <a:off x="7391520" y="228600"/>
            <a:ext cx="1600200" cy="1562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19920" y="228600"/>
            <a:ext cx="1371600" cy="1447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52280"/>
            <a:ext cx="89917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veraged over sufficient area the shear field has a mean of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2 point correlation function or power spectra which contains cosmological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914400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4568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function measu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tendency for galaxies at a chosen separation to have pre- ferred shape al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333760" cy="1643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981080" y="3998880"/>
            <a:ext cx="50292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erical Harm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ant the 3D power spectrum for cosmic sh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need to generalise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pherical harmonics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n-2 fi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Fourier Transfor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057400" y="4343400"/>
            <a:ext cx="5143680" cy="736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057400" y="5181480"/>
            <a:ext cx="494028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16:35:20Z</dcterms:created>
  <dc:creator>Thomas Kitching</dc:creator>
  <dc:description/>
  <dc:language>en-US</dc:language>
  <cp:lastModifiedBy>Thomas Kitching</cp:lastModifiedBy>
  <dcterms:modified xsi:type="dcterms:W3CDTF">2011-05-10T08:14:29Z</dcterms:modified>
  <cp:revision>11</cp:revision>
  <dc:subject/>
  <dc:title>Weak Lensing</dc:title>
</cp:coreProperties>
</file>