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ng" ContentType="image/png"/>
  <Override PartName="/ppt/media/image12.pct" ContentType="image/x-pict"/>
  <Override PartName="/ppt/media/image49.pct" ContentType="image/x-pict"/>
  <Override PartName="/ppt/media/image14.pct" ContentType="image/x-pict"/>
  <Override PartName="/ppt/media/image24.pct" ContentType="image/x-pict"/>
  <Override PartName="/ppt/media/image1.pct" ContentType="image/x-pict"/>
  <Override PartName="/ppt/media/image31.pct" ContentType="image/x-pict"/>
  <Override PartName="/ppt/media/image25.pct" ContentType="image/x-pict"/>
  <Override PartName="/ppt/media/image2.pct" ContentType="image/x-pict"/>
  <Override PartName="/ppt/media/image32.pct" ContentType="image/x-pict"/>
  <Override PartName="/ppt/media/image26.pct" ContentType="image/x-pict"/>
  <Override PartName="/ppt/media/image3.pct" ContentType="image/x-pict"/>
  <Override PartName="/ppt/media/image33.pct" ContentType="image/x-pict"/>
  <Override PartName="/ppt/media/image11.png" ContentType="image/png"/>
  <Override PartName="/ppt/media/image45.pct" ContentType="image/x-pict"/>
  <Override PartName="/ppt/media/image27.pct" ContentType="image/x-pict"/>
  <Override PartName="/ppt/media/image4.pct" ContentType="image/x-pict"/>
  <Override PartName="/ppt/media/image7.png" ContentType="image/png"/>
  <Override PartName="/ppt/media/image34.pct" ContentType="image/x-pict"/>
  <Override PartName="/ppt/media/image20.pct" ContentType="image/x-pict"/>
  <Override PartName="/ppt/media/image18.pct" ContentType="image/x-pict"/>
  <Override PartName="/ppt/media/image28.pct" ContentType="image/x-pict"/>
  <Override PartName="/ppt/media/image46.pct" ContentType="image/x-pict"/>
  <Override PartName="/ppt/media/image48.pct" ContentType="image/x-pict"/>
  <Override PartName="/ppt/media/image50.pct" ContentType="image/x-pict"/>
  <Override PartName="/ppt/media/image13.pct" ContentType="image/x-pict"/>
  <Override PartName="/ppt/media/image51.pct" ContentType="image/x-pict"/>
  <Override PartName="/ppt/media/image29.pct" ContentType="image/x-pict"/>
  <Override PartName="/ppt/media/image52.pct" ContentType="image/x-pict"/>
  <Override PartName="/ppt/media/image41.pct" ContentType="image/x-pict"/>
  <Override PartName="/ppt/media/image39.pct" ContentType="image/x-pict"/>
  <Override PartName="/ppt/media/image53.pct" ContentType="image/x-pict"/>
  <Override PartName="/ppt/media/image42.pct" ContentType="image/x-pict"/>
  <Override PartName="/ppt/media/image54.pct" ContentType="image/x-pict"/>
  <Override PartName="/ppt/media/image55.pct" ContentType="image/x-pict"/>
  <Override PartName="/ppt/media/image44.pct" ContentType="image/x-pict"/>
  <Override PartName="/ppt/media/image56.pct" ContentType="image/x-pict"/>
  <Override PartName="/ppt/media/image43.png" ContentType="image/png"/>
  <Override PartName="/ppt/media/image40.pct" ContentType="image/x-pict"/>
  <Override PartName="/ppt/media/image37.pct" ContentType="image/x-pict"/>
  <Override PartName="/ppt/media/image30.pct" ContentType="image/x-pict"/>
  <Override PartName="/ppt/media/image38.pct" ContentType="image/x-pict"/>
  <Override PartName="/ppt/media/image8.pct" ContentType="image/x-pict"/>
  <Override PartName="/ppt/media/image22.pct" ContentType="image/x-pict"/>
  <Override PartName="/ppt/media/image6.pct" ContentType="image/x-pict"/>
  <Override PartName="/ppt/media/image9.png" ContentType="image/png"/>
  <Override PartName="/ppt/media/image36.pct" ContentType="image/x-pict"/>
  <Override PartName="/ppt/media/image47.pct" ContentType="image/x-pict"/>
  <Override PartName="/ppt/media/image10.pct" ContentType="image/x-pict"/>
  <Override PartName="/ppt/media/image5.pct" ContentType="image/x-pict"/>
  <Override PartName="/ppt/media/image35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369D-42F5-4957-8AC4-424D2692E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2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378823EC-C288-4B91-8CCC-26BC7B2D8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plitily challenge the winning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2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810B1D01-B5A2-4775-AC52-3362FA498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2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2C3F6066-A41F-4ED0-9E6D-B017FC0EE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2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A6F8DA66-9797-447F-B736-B60DC78FA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4EFE-EBEE-47CB-8F38-2FD8499F8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7240" y="3859560"/>
            <a:ext cx="8991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1958-11D5-4002-9A49-96F7EA898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4387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520" y="914040"/>
            <a:ext cx="4387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7240" y="3859560"/>
            <a:ext cx="4387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54520" y="3859560"/>
            <a:ext cx="4387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98A97-7E58-403A-B343-B86CE04A4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289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7440" y="914040"/>
            <a:ext cx="289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27640" y="914040"/>
            <a:ext cx="289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7240" y="3859560"/>
            <a:ext cx="289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7440" y="3859560"/>
            <a:ext cx="289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27640" y="3859560"/>
            <a:ext cx="289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21C5-22FB-415C-840D-BC7EC06FC4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90BE6-7859-4FBB-BFBD-01A99EF428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C539-3103-492D-BCE0-01D3A413B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4387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54520" y="914040"/>
            <a:ext cx="4387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CC92-8343-4920-8316-AC9E5CF522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C675-6D96-42F8-9C58-53C804D34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7240" y="0"/>
            <a:ext cx="8991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863B-4AEB-4667-BF72-D8DC38FAD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4387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4520" y="914040"/>
            <a:ext cx="4387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7240" y="3859560"/>
            <a:ext cx="4387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9C74-E958-4E45-B22E-0C65215EE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4387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4520" y="914040"/>
            <a:ext cx="4387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54520" y="3859560"/>
            <a:ext cx="4387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5B25-C649-46A5-A61A-D67FB0F17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4387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4520" y="914040"/>
            <a:ext cx="4387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7240" y="3859560"/>
            <a:ext cx="8991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E5B6-185F-4675-8623-E150114F3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42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AC4A-EAAC-44A0-B453-94E03CB06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10.pct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ct"/><Relationship Id="rId3" Type="http://schemas.openxmlformats.org/officeDocument/2006/relationships/image" Target="../media/image22.pct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image" Target="../media/image25.pct"/><Relationship Id="rId3" Type="http://schemas.openxmlformats.org/officeDocument/2006/relationships/image" Target="../media/image26.pct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image" Target="../media/image11.png"/><Relationship Id="rId3" Type="http://schemas.openxmlformats.org/officeDocument/2006/relationships/image" Target="../media/image13.pct"/><Relationship Id="rId4" Type="http://schemas.openxmlformats.org/officeDocument/2006/relationships/image" Target="../media/image29.pct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image" Target="../media/image31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image" Target="../media/image34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ct"/><Relationship Id="rId2" Type="http://schemas.openxmlformats.org/officeDocument/2006/relationships/image" Target="../media/image37.pct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image" Target="../media/image39.pct"/><Relationship Id="rId3" Type="http://schemas.openxmlformats.org/officeDocument/2006/relationships/image" Target="../media/image40.pct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image" Target="../media/image6.pct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ct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ct"/><Relationship Id="rId2" Type="http://schemas.openxmlformats.org/officeDocument/2006/relationships/image" Target="../media/image45.pct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ct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ct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pct"/><Relationship Id="rId2" Type="http://schemas.openxmlformats.org/officeDocument/2006/relationships/image" Target="../media/image49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image" Target="../media/image6.pct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0.pct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1.pct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pct"/><Relationship Id="rId2" Type="http://schemas.openxmlformats.org/officeDocument/2006/relationships/image" Target="../media/image52.pct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3.pct"/><Relationship Id="rId2" Type="http://schemas.openxmlformats.org/officeDocument/2006/relationships/image" Target="../media/image54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5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6.pct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ng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k Lens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Ki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701028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1F05-1FB9-40F8-B2D9-5B0377D7894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284800" y="1413000"/>
            <a:ext cx="3390840" cy="3390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441600" cy="3390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0" y="501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ly Poisson. Some Gaussian and bad pix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certainty on total light ~ 5 per 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3995640" y="3068640"/>
            <a:ext cx="12240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1371600"/>
            <a:ext cx="9144000" cy="3657600"/>
            <a:chOff x="0" y="1371600"/>
            <a:chExt cx="9144000" cy="365760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0" y="1371600"/>
              <a:ext cx="9144000" cy="33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flipV="1">
              <a:off x="3505320" y="457200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05320" y="5029200"/>
              <a:ext cx="4952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58200" y="457200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898800" y="5029200"/>
            <a:ext cx="42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measure shear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insic Ellipt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introduced here the notion that the sources themselves are already ellipt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29000" y="3505320"/>
            <a:ext cx="5470560" cy="2093760"/>
            <a:chOff x="3429000" y="3505320"/>
            <a:chExt cx="5470560" cy="2093760"/>
          </a:xfrm>
        </p:grpSpPr>
        <p:pic>
          <p:nvPicPr>
            <p:cNvPr id="113" name="Picture 4" descr=""/>
            <p:cNvPicPr/>
            <p:nvPr/>
          </p:nvPicPr>
          <p:blipFill>
            <a:blip r:embed="rId1"/>
            <a:stretch/>
          </p:blipFill>
          <p:spPr>
            <a:xfrm>
              <a:off x="3429000" y="3505320"/>
              <a:ext cx="2095560" cy="20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5" descr=""/>
            <p:cNvPicPr/>
            <p:nvPr/>
          </p:nvPicPr>
          <p:blipFill>
            <a:blip r:embed="rId2"/>
            <a:stretch/>
          </p:blipFill>
          <p:spPr>
            <a:xfrm>
              <a:off x="6781680" y="3505320"/>
              <a:ext cx="2117880" cy="20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Line 10"/>
            <p:cNvSpPr/>
            <p:nvPr/>
          </p:nvSpPr>
          <p:spPr>
            <a:xfrm>
              <a:off x="5791320" y="4419720"/>
              <a:ext cx="869760" cy="14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28600" y="3962520"/>
            <a:ext cx="914400" cy="914400"/>
            <a:chOff x="228600" y="3962520"/>
            <a:chExt cx="914400" cy="914400"/>
          </a:xfrm>
        </p:grpSpPr>
        <p:sp>
          <p:nvSpPr>
            <p:cNvPr id="117" name=""/>
            <p:cNvSpPr/>
            <p:nvPr/>
          </p:nvSpPr>
          <p:spPr>
            <a:xfrm>
              <a:off x="609480" y="3962520"/>
              <a:ext cx="15228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609480" y="3962520"/>
              <a:ext cx="15228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48280" y="4039560"/>
            <a:ext cx="760680" cy="760680"/>
            <a:chOff x="1448280" y="4039560"/>
            <a:chExt cx="760680" cy="760680"/>
          </a:xfrm>
        </p:grpSpPr>
        <p:sp>
          <p:nvSpPr>
            <p:cNvPr id="120" name=""/>
            <p:cNvSpPr/>
            <p:nvPr/>
          </p:nvSpPr>
          <p:spPr>
            <a:xfrm rot="2742000">
              <a:off x="1752480" y="3962160"/>
              <a:ext cx="152280" cy="914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8142600">
              <a:off x="1752480" y="3962520"/>
              <a:ext cx="152280" cy="914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65840" y="35053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8840" y="35053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drupole Mo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implementation called KS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wieghted quadrupole mo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over all pixels and find the 2nd mo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5333760" cy="1090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819520" y="4419720"/>
            <a:ext cx="342900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ame way as the derivation of the shear have a traceless part of the matri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lipticity such tha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33720" y="3200400"/>
            <a:ext cx="4140000" cy="99072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1752480" y="4764240"/>
            <a:ext cx="5470560" cy="2093760"/>
            <a:chOff x="1752480" y="4764240"/>
            <a:chExt cx="5470560" cy="2093760"/>
          </a:xfrm>
        </p:grpSpPr>
        <p:pic>
          <p:nvPicPr>
            <p:cNvPr id="132" name="Picture 4" descr=""/>
            <p:cNvPicPr/>
            <p:nvPr/>
          </p:nvPicPr>
          <p:blipFill>
            <a:blip r:embed="rId2"/>
            <a:stretch/>
          </p:blipFill>
          <p:spPr>
            <a:xfrm>
              <a:off x="1752480" y="4764240"/>
              <a:ext cx="2095560" cy="20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5" descr=""/>
            <p:cNvPicPr/>
            <p:nvPr/>
          </p:nvPicPr>
          <p:blipFill>
            <a:blip r:embed="rId3"/>
            <a:stretch/>
          </p:blipFill>
          <p:spPr>
            <a:xfrm>
              <a:off x="5105160" y="4764240"/>
              <a:ext cx="2117880" cy="20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Line 10"/>
            <p:cNvSpPr/>
            <p:nvPr/>
          </p:nvSpPr>
          <p:spPr>
            <a:xfrm>
              <a:off x="4114800" y="5678640"/>
              <a:ext cx="869760" cy="14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n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ipt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ion of the unlensed quadrupoles (exercise to show thi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819520" y="838080"/>
            <a:ext cx="3517920" cy="1130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505320" y="2971800"/>
            <a:ext cx="2286000" cy="530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286000" y="5257800"/>
            <a:ext cx="46735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neider &amp; Seitz (19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the observed ellipticity to be related to the unlensed ellipticity and s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duced shear g=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/(1-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754380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Bonnet &amp; Mellier (19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normalisation of the mo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4989240" cy="1046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438280" y="2286000"/>
            <a:ext cx="4303800" cy="1085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362320" y="4654440"/>
            <a:ext cx="449568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ak lensing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&lt;&lt;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754380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eak Lensing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average over (enough) galaxies in the universe the intrinsic ellipticity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ndomly orient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362320" y="2895480"/>
            <a:ext cx="426708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sing useful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k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k Mat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surveys covering 100’s or 1000’s of square degrees coming online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724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ing into account the P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Quadrup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ractical implementation (KSB, 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029200" y="3809880"/>
            <a:ext cx="2247840" cy="50796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1828800" y="762120"/>
            <a:ext cx="5714640" cy="2209680"/>
            <a:chOff x="1828800" y="762120"/>
            <a:chExt cx="5714640" cy="2209680"/>
          </a:xfrm>
        </p:grpSpPr>
        <p:pic>
          <p:nvPicPr>
            <p:cNvPr id="158" name="Picture 4" descr=""/>
            <p:cNvPicPr/>
            <p:nvPr/>
          </p:nvPicPr>
          <p:blipFill>
            <a:blip r:embed="rId2"/>
            <a:stretch/>
          </p:blipFill>
          <p:spPr>
            <a:xfrm>
              <a:off x="1828800" y="762120"/>
              <a:ext cx="2365200" cy="219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5" descr=""/>
            <p:cNvPicPr/>
            <p:nvPr/>
          </p:nvPicPr>
          <p:blipFill>
            <a:blip r:embed="rId3"/>
            <a:stretch/>
          </p:blipFill>
          <p:spPr>
            <a:xfrm>
              <a:off x="5142960" y="762120"/>
              <a:ext cx="24004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Line 12"/>
            <p:cNvSpPr/>
            <p:nvPr/>
          </p:nvSpPr>
          <p:spPr>
            <a:xfrm>
              <a:off x="4289040" y="1845000"/>
              <a:ext cx="85356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447920" y="4267080"/>
            <a:ext cx="510516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of model f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measuring a quantit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ata we can fit a mode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l can contain elements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e galaxy (intrinsic sha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e PS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del can be convolved with the PS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yes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elliticity distrib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set of parameters we need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osition (x,y), brightness, si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029200" y="3352680"/>
            <a:ext cx="3720960" cy="96516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304920" y="2362320"/>
            <a:ext cx="3962880" cy="3000240"/>
            <a:chOff x="304920" y="2362320"/>
            <a:chExt cx="3962880" cy="3000240"/>
          </a:xfrm>
        </p:grpSpPr>
        <p:sp>
          <p:nvSpPr>
            <p:cNvPr id="170" name=""/>
            <p:cNvSpPr/>
            <p:nvPr/>
          </p:nvSpPr>
          <p:spPr>
            <a:xfrm flipV="1">
              <a:off x="2057400" y="261936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4920" y="391464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90720" y="2924280"/>
              <a:ext cx="2133360" cy="198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76520" y="3686040"/>
              <a:ext cx="99036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02840" y="236232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18880" y="391464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39720" y="444816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|e|=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219320" y="5562720"/>
            <a:ext cx="68198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yesian Model F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 in this case is the probability distribution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rins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ipticity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teratively extract this from the data by summation of the posterior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47246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stimate ellipticity and shear using model f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(from quadrupoles) that in the weak lensing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robability (model fitting) this i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pectation val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581280" y="3352680"/>
            <a:ext cx="1473480" cy="584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676520" y="5410080"/>
            <a:ext cx="601956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prior to correctly weight ellipt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 the ellipticity prior can bias individual shear values if they are low signal-to-nois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a Bayesian method can exactly account for th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erms &lt;&lt;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shea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nsitivit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33520" y="4648320"/>
            <a:ext cx="8407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for this effect (noise b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dd extra weight if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133720" y="609480"/>
            <a:ext cx="5016240" cy="1409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057400" y="2819520"/>
            <a:ext cx="47354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sf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 et al. (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tching et al. (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yesian Model f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emperical models (bulge+dis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tically marginalises over brightness and galaxy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performing shape measurement method to date (used on PS1, CFHTL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5033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odel based on a QM formal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raising lowering operators (see L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y on real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egularise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3865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sing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conformal mapp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Relativity relates this to the gravitational potent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ortion matrix implies that distortion is elliptical : shear and converg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formalise that relates the shear and convergence (observable) to the underlying gravitational potent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91320" y="380880"/>
            <a:ext cx="2819160" cy="15242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F Mod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7240" y="1676520"/>
            <a:ext cx="8991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del fitting methods need to model the PSF a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391520" cy="9079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2743200"/>
            <a:ext cx="6172200" cy="3736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618160" y="4038480"/>
            <a:ext cx="35258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F Mod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in ways of PSF model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Direct : Model the PSF in each exposure using a fitted model to either pixel intensity, ellipticity, size of st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Indirect : Use multiple exposures to extract the model from the data -- a PCA-like appro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onvolution : remove the PSF from the data by deconvolving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rt IV : Lensing Simu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ar Testing Program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vitational lEnsing Accuracy Test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600200" y="228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819520" y="228600"/>
            <a:ext cx="1274760" cy="1295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4267080" y="457200"/>
            <a:ext cx="1676520" cy="846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6019920" y="304920"/>
            <a:ext cx="1338120" cy="129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"/>
          <p:cNvPicPr/>
          <p:nvPr/>
        </p:nvPicPr>
        <p:blipFill>
          <a:blip r:embed="rId6"/>
          <a:srcRect l="13922" t="27971" r="10119" b="19537"/>
          <a:stretch/>
        </p:blipFill>
        <p:spPr>
          <a:xfrm>
            <a:off x="7391520" y="228600"/>
            <a:ext cx="1600200" cy="15620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343400" y="152280"/>
            <a:ext cx="1523880" cy="1447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-3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shape measurement codes and approach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s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M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l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sicl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xtr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n’t know the true shear (no “spectra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need sim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: Shear Testing Program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360" y="914040"/>
            <a:ext cx="7467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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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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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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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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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590920" y="5105520"/>
            <a:ext cx="3504960" cy="68580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520" y="0"/>
            <a:ext cx="600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ymans et al., 2006; Massey et al., 2007 &amp; Kitching et al.,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761000" cy="541008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5334120" y="1752480"/>
            <a:ext cx="3352680" cy="3124440"/>
            <a:chOff x="5334120" y="1752480"/>
            <a:chExt cx="3352680" cy="3124440"/>
          </a:xfrm>
        </p:grpSpPr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5334120" y="1752480"/>
              <a:ext cx="3352680" cy="31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7861320" y="374184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S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3962520" cy="3294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962520" y="1295280"/>
            <a:ext cx="518148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4724280" cy="22431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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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  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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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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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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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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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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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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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981840" cy="67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43200" y="1776240"/>
            <a:ext cx="6400800" cy="4751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3505320" cy="1176120"/>
          </a:xfrm>
          <a:prstGeom prst="rect">
            <a:avLst/>
          </a:prstGeom>
          <a:ln w="31680">
            <a:solidFill>
              <a:srgbClr val="990000"/>
            </a:solidFill>
            <a:miter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52560" y="6521400"/>
            <a:ext cx="638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tching et al., 2008 (form filling functions); Amara &amp; Refregier (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rt III : Measuring Len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ing Mo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Fit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F model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00200" y="228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819520" y="228600"/>
            <a:ext cx="1274760" cy="1295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267080" y="457200"/>
            <a:ext cx="1676520" cy="84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019920" y="304920"/>
            <a:ext cx="1338120" cy="1298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6"/>
          <a:srcRect l="13922" t="27971" r="10119" b="19537"/>
          <a:stretch/>
        </p:blipFill>
        <p:spPr>
          <a:xfrm>
            <a:off x="7391520" y="228600"/>
            <a:ext cx="1600200" cy="1562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43200" y="152280"/>
            <a:ext cx="1371600" cy="1447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69280" cy="5803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517840" y="5867280"/>
            <a:ext cx="36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non-lensing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~1000 in some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08 : Stacking Procedure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02200" cy="42735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296720" y="5943600"/>
            <a:ext cx="63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ning Methods (Q=1000) Stacked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114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83800" y="1600200"/>
            <a:ext cx="20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25560" y="4800600"/>
            <a:ext cx="1621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50800" y="2819520"/>
            <a:ext cx="14655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5880" y="3048120"/>
            <a:ext cx="1905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em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1803600" cy="855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876920" y="25146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2320" y="2209680"/>
            <a:ext cx="12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429000"/>
            <a:ext cx="80773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3276720"/>
            <a:ext cx="0" cy="380880"/>
          </a:xfrm>
          <a:prstGeom prst="line">
            <a:avLst/>
          </a:prstGeom>
          <a:ln w="442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3276720"/>
            <a:ext cx="0" cy="380880"/>
          </a:xfrm>
          <a:prstGeom prst="line">
            <a:avLst/>
          </a:prstGeom>
          <a:ln w="442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34320" y="3276720"/>
            <a:ext cx="0" cy="380880"/>
          </a:xfrm>
          <a:prstGeom prst="line">
            <a:avLst/>
          </a:prstGeom>
          <a:ln w="442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640" y="3657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31160" y="37339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79280" y="3657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572000" y="2971800"/>
            <a:ext cx="1920960" cy="873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7391520" y="3429000"/>
            <a:ext cx="1752480" cy="0"/>
          </a:xfrm>
          <a:prstGeom prst="line">
            <a:avLst/>
          </a:prstGeom>
          <a:ln w="381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47240" y="3617640"/>
            <a:ext cx="8991720" cy="29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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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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49532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322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048120" y="2971800"/>
            <a:ext cx="29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ey et al. 200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2971800"/>
            <a:ext cx="29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 et al. 200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295280" y="3319560"/>
            <a:ext cx="647712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305000" y="0"/>
            <a:ext cx="597528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great10challenge.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53280" cy="6912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600200" y="2743200"/>
            <a:ext cx="2362320" cy="2362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2743200"/>
            <a:ext cx="2362320" cy="2362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19520" y="5410080"/>
            <a:ext cx="236196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086600" y="6019920"/>
            <a:ext cx="91440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95680" y="1143000"/>
            <a:ext cx="342900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05920" y="0"/>
            <a:ext cx="8380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153280" y="5943600"/>
            <a:ext cx="9907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d galaxies have instrinsic ellipticity and sh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shape measurement metho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ents - KS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fitting - lensf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an unsolved problem for largest most ambitous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,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0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LIVE(!) GREAT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mic Shear : the Statistics of Weak L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240" y="-2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753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181080" y="-5427720"/>
            <a:ext cx="9753840" cy="17786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3780000" y="4292280"/>
            <a:ext cx="1079280" cy="1366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62880" y="5157720"/>
            <a:ext cx="31312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ypical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d for f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olution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51640" y="3573360"/>
            <a:ext cx="2872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05040" y="2276640"/>
            <a:ext cx="267552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ypical gala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d for cos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a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701028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A863-A70C-4BE2-A96F-C915388BEDF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smic L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390840" cy="3354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5284800" y="1413000"/>
            <a:ext cx="3390840" cy="3352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24000" y="4869000"/>
            <a:ext cx="6186240" cy="1460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6954480" y="5013360"/>
            <a:ext cx="2030760" cy="113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l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~0.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3930120" y="3357720"/>
            <a:ext cx="126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~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>
            <a:off x="3995640" y="3068640"/>
            <a:ext cx="12240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701028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9E04-2F95-4670-BC6F-034CB6902A3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tmosphere and Tele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0" y="4941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olution with ker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187280" y="5661000"/>
            <a:ext cx="67694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l data: Kernel size ~ Galaxy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68360" y="1413000"/>
            <a:ext cx="8192880" cy="3378240"/>
            <a:chOff x="468360" y="1413000"/>
            <a:chExt cx="8192880" cy="33782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468360" y="1413000"/>
              <a:ext cx="339084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5" descr=""/>
            <p:cNvPicPr/>
            <p:nvPr/>
          </p:nvPicPr>
          <p:blipFill>
            <a:blip r:embed="rId2"/>
            <a:stretch/>
          </p:blipFill>
          <p:spPr>
            <a:xfrm>
              <a:off x="5219640" y="1413000"/>
              <a:ext cx="3441600" cy="33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Line 12"/>
            <p:cNvSpPr/>
            <p:nvPr/>
          </p:nvSpPr>
          <p:spPr>
            <a:xfrm>
              <a:off x="3995640" y="3068640"/>
              <a:ext cx="122400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701028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E4B8-C18B-4A74-9422-28F9D317FEA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24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ixe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441600" cy="3390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441600" cy="3378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0" y="4941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 light in each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971640" y="5661000"/>
            <a:ext cx="72007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l data: Pixel size ~ Kernel size 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3995640" y="3068640"/>
            <a:ext cx="12240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16:35:20Z</dcterms:created>
  <dc:creator>Thomas Kitching</dc:creator>
  <dc:description/>
  <dc:language>en-US</dc:language>
  <cp:lastModifiedBy>Thomas Kitching</cp:lastModifiedBy>
  <dcterms:modified xsi:type="dcterms:W3CDTF">2011-05-10T08:06:00Z</dcterms:modified>
  <cp:revision>23</cp:revision>
  <dc:subject/>
  <dc:title>Weak Lensing</dc:title>
</cp:coreProperties>
</file>